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.4-</a:t>
            </a:r>
            <a:fld id="{9B01BF3B-580C-4275-95A9-6F7C7FDC3CEF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88560" y="1143000"/>
            <a:ext cx="77742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the function is even, odd, or nei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14600" y="1981080"/>
          <a:ext cx="243828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2438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371600" y="3147840"/>
          <a:ext cx="2846520" cy="9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147840"/>
                    <a:ext cx="284652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90720" y="4572000"/>
            <a:ext cx="430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od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3429000"/>
            <a:ext cx="16765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629400" y="3505320"/>
            <a:ext cx="0" cy="22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572000"/>
            <a:ext cx="30481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809880"/>
            <a:ext cx="1371600" cy="1143000"/>
          </a:xfrm>
          <a:custGeom>
            <a:avLst/>
            <a:gdLst/>
            <a:ahLst/>
            <a:rect l="l" t="t" r="r" b="b"/>
            <a:pathLst>
              <a:path w="864" h="912">
                <a:moveTo>
                  <a:pt x="0" y="0"/>
                </a:moveTo>
                <a:cubicBezTo>
                  <a:pt x="48" y="236"/>
                  <a:pt x="96" y="472"/>
                  <a:pt x="144" y="624"/>
                </a:cubicBezTo>
                <a:cubicBezTo>
                  <a:pt x="192" y="776"/>
                  <a:pt x="240" y="912"/>
                  <a:pt x="288" y="912"/>
                </a:cubicBezTo>
                <a:cubicBezTo>
                  <a:pt x="336" y="912"/>
                  <a:pt x="384" y="624"/>
                  <a:pt x="432" y="624"/>
                </a:cubicBezTo>
                <a:cubicBezTo>
                  <a:pt x="480" y="624"/>
                  <a:pt x="528" y="912"/>
                  <a:pt x="576" y="912"/>
                </a:cubicBezTo>
                <a:cubicBezTo>
                  <a:pt x="624" y="912"/>
                  <a:pt x="672" y="776"/>
                  <a:pt x="720" y="624"/>
                </a:cubicBezTo>
                <a:cubicBezTo>
                  <a:pt x="768" y="472"/>
                  <a:pt x="816" y="236"/>
                  <a:pt x="864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ertical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963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tical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hif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hif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467480" y="4343400"/>
            <a:ext cx="1247760" cy="368280"/>
          </a:xfrm>
          <a:prstGeom prst="rect">
            <a:avLst/>
          </a:prstGeom>
          <a:solidFill>
            <a:srgbClr val="8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009920" y="1752480"/>
            <a:ext cx="412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2895480"/>
            <a:ext cx="838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34320" y="3124080"/>
            <a:ext cx="565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857640" y="43430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1523880"/>
            <a:ext cx="1247760" cy="368280"/>
          </a:xfrm>
          <a:prstGeom prst="rect">
            <a:avLst/>
          </a:prstGeom>
          <a:solidFill>
            <a:srgbClr val="0000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orizontal Transl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rizontal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hif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+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hif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029200" y="1905120"/>
            <a:ext cx="3333600" cy="3333600"/>
            <a:chOff x="5029200" y="1905120"/>
            <a:chExt cx="3333600" cy="3333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5029200" y="1905120"/>
              <a:ext cx="333360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858000" y="3962520"/>
              <a:ext cx="91440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6781320" y="353016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620120" y="2590920"/>
            <a:ext cx="1371600" cy="368280"/>
          </a:xfrm>
          <a:prstGeom prst="rect">
            <a:avLst/>
          </a:prstGeom>
          <a:solidFill>
            <a:srgbClr val="8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(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886200"/>
            <a:ext cx="1371600" cy="368280"/>
          </a:xfrm>
          <a:prstGeom prst="rect">
            <a:avLst/>
          </a:prstGeom>
          <a:solidFill>
            <a:srgbClr val="0000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(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619760" y="24382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05520" y="32763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efle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grap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grap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oi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on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the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is on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and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on the graph    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of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ros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333960" cy="3333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81480" y="2209680"/>
            <a:ext cx="1447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5105520"/>
            <a:ext cx="152424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of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ros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2590920"/>
            <a:ext cx="1447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2514600"/>
            <a:ext cx="152388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91120" y="2895120"/>
            <a:ext cx="0" cy="2210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962520"/>
            <a:ext cx="30481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895480"/>
            <a:ext cx="1066680" cy="2286000"/>
          </a:xfrm>
          <a:custGeom>
            <a:avLst/>
            <a:gdLst/>
            <a:ahLst/>
            <a:rect l="l" t="t" r="r" b="b"/>
            <a:pathLst>
              <a:path w="672" h="1440">
                <a:moveTo>
                  <a:pt x="0" y="1440"/>
                </a:moveTo>
                <a:cubicBezTo>
                  <a:pt x="60" y="1084"/>
                  <a:pt x="120" y="728"/>
                  <a:pt x="192" y="672"/>
                </a:cubicBezTo>
                <a:cubicBezTo>
                  <a:pt x="264" y="616"/>
                  <a:pt x="352" y="1216"/>
                  <a:pt x="432" y="1104"/>
                </a:cubicBezTo>
                <a:cubicBezTo>
                  <a:pt x="512" y="992"/>
                  <a:pt x="592" y="496"/>
                  <a:pt x="672" y="0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428280" y="2895480"/>
            <a:ext cx="1066680" cy="2286000"/>
          </a:xfrm>
          <a:custGeom>
            <a:avLst/>
            <a:gdLst/>
            <a:ahLst/>
            <a:rect l="l" t="t" r="r" b="b"/>
            <a:pathLst>
              <a:path w="672" h="1440">
                <a:moveTo>
                  <a:pt x="0" y="1440"/>
                </a:moveTo>
                <a:cubicBezTo>
                  <a:pt x="60" y="1084"/>
                  <a:pt x="120" y="728"/>
                  <a:pt x="192" y="672"/>
                </a:cubicBezTo>
                <a:cubicBezTo>
                  <a:pt x="264" y="616"/>
                  <a:pt x="352" y="1216"/>
                  <a:pt x="432" y="1104"/>
                </a:cubicBezTo>
                <a:cubicBezTo>
                  <a:pt x="512" y="992"/>
                  <a:pt x="592" y="496"/>
                  <a:pt x="672" y="0"/>
                </a:cubicBezTo>
              </a:path>
            </a:pathLst>
          </a:custGeom>
          <a:noFill/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ertical Stretching and Shri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obtained from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tretching verti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gt; 1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hrinking verti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0 &lt;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0, the graph is also reflected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ordinates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obtained by multiply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ordina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572000" cy="2481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66680" y="1066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343400" cy="2855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90720" y="1066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rink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ly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419720" cy="2787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90720" y="10666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 and reflec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ros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x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  Increasing, Decreasing, and Piecew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  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  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4  Symmetry and Transform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 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orizontal Stretching or Shrinking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obtained from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hrinking horizont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|c| &gt; 1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tretching horizont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0 &lt;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| 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0, the graph is also reflected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ordinates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obtained by divid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ordinates o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343400" cy="2516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66680" y="1066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rink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114800" cy="2520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66680" y="10666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733560" cy="3119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66680" y="10666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 horizontally and reflec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.4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mmetry and Transformation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ether a graph is symmetric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respect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, and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ether a function is even, odd,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neither even nor od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the graph of a function, graph 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transformation under translations, reflection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stretchings, and shrink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ymmetr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ebraic Tests of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x-axi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f repl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an equivalent equation, then the graph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mmetric with respect to the x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-axi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f repl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an equivalent equation, then the graph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mmetric with respect to the y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Origin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repl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an equivalent equation, then the graph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mmetric with respect to the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6933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for symmetry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and the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x-axi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equ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ivalent to the original so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mmetric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33720" y="3200400"/>
          <a:ext cx="2495520" cy="10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24955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for symmetry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and the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66320" y="2666520"/>
            <a:ext cx="723924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axis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equ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ivalent to the original equation, so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mmetric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86000" y="3200400"/>
          <a:ext cx="2449440" cy="10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00400"/>
                    <a:ext cx="244944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63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Origin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equ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ivalent to the original equation, so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mmetric with respect to the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01640" y="2209680"/>
          <a:ext cx="229572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209680"/>
                    <a:ext cx="229572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en and Odd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graph of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ymmetric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we say that it is an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ven function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s,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graph of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ymmetric with respec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say that it is an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odd function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s,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8920" y="1143000"/>
            <a:ext cx="74692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the function is even, odd, or nei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124080" y="2041560"/>
          <a:ext cx="243864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041560"/>
                    <a:ext cx="2438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447920" y="3124080"/>
          <a:ext cx="3352680" cy="10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124080"/>
                    <a:ext cx="33526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086600" y="3429000"/>
            <a:ext cx="16765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29400" y="3505320"/>
            <a:ext cx="0" cy="2209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4572000"/>
            <a:ext cx="30481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3809880"/>
            <a:ext cx="1371600" cy="1143000"/>
          </a:xfrm>
          <a:custGeom>
            <a:avLst/>
            <a:gdLst/>
            <a:ahLst/>
            <a:rect l="l" t="t" r="r" b="b"/>
            <a:pathLst>
              <a:path w="864" h="912">
                <a:moveTo>
                  <a:pt x="0" y="0"/>
                </a:moveTo>
                <a:cubicBezTo>
                  <a:pt x="48" y="236"/>
                  <a:pt x="96" y="472"/>
                  <a:pt x="144" y="624"/>
                </a:cubicBezTo>
                <a:cubicBezTo>
                  <a:pt x="192" y="776"/>
                  <a:pt x="240" y="912"/>
                  <a:pt x="288" y="912"/>
                </a:cubicBezTo>
                <a:cubicBezTo>
                  <a:pt x="336" y="912"/>
                  <a:pt x="384" y="624"/>
                  <a:pt x="432" y="624"/>
                </a:cubicBezTo>
                <a:cubicBezTo>
                  <a:pt x="480" y="624"/>
                  <a:pt x="528" y="912"/>
                  <a:pt x="576" y="912"/>
                </a:cubicBezTo>
                <a:cubicBezTo>
                  <a:pt x="624" y="912"/>
                  <a:pt x="672" y="776"/>
                  <a:pt x="720" y="624"/>
                </a:cubicBezTo>
                <a:cubicBezTo>
                  <a:pt x="768" y="472"/>
                  <a:pt x="816" y="236"/>
                  <a:pt x="864" y="0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6:25Z</dcterms:modified>
  <cp:revision>216</cp:revision>
  <dc:subject/>
  <dc:title>No Slide Title</dc:title>
</cp:coreProperties>
</file>